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71D-26A5-4F70-B45E-D1E03127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589-CE77-43B1-981A-8BFA4EDC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EF0-72BF-4B90-8105-06098B24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435-4C8D-4C7D-A2F1-2A4EA343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316-E298-42E0-9405-8C415599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674-6576-41E7-9850-0BA89FFF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458-AC6E-43DF-9878-C120E1D2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C85-9476-497C-B168-7420FC9B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BE5-0222-42BD-9DBB-5804D0C1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D9B-6B03-4E2C-A8BD-27A0269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897-FD8D-4BCA-AECC-D7291EF7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7DF-DF90-4BB4-BB69-0059AAA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51EA-0E16-44CB-AE98-AAB53588D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40360" y="333360"/>
            <a:ext cx="5003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eaeaea"/>
                </a:solidFill>
                <a:latin typeface="comic"/>
              </a:rPr>
              <a:t>24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оже наш, ний Теб се молим: Дай ни успех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Против злото да се бори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и молбата ни да чуеш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с сполука увенчаеш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ай ни усп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24360" y="189000"/>
            <a:ext cx="5219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аз молба ние ще повторим: 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стината да говорим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Както на светиите в древност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 Ти служим ние със ревност, дай ни усп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0" y="6480"/>
            <a:ext cx="9142560" cy="6845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356000" cy="6918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стоянно да се моли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еуморно да се труди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подвизи непостижим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ъс Духа Си подкрепи н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0:44:47Z</dcterms:created>
  <dc:creator>TrifonTrifonow</dc:creator>
  <dc:description/>
  <dc:language>en-US</dc:language>
  <cp:lastModifiedBy>TrifonTrifonow</cp:lastModifiedBy>
  <dcterms:modified xsi:type="dcterms:W3CDTF">2005-12-01T21:01:18Z</dcterms:modified>
  <cp:revision>8</cp:revision>
  <dc:subject/>
  <dc:title>Slide 1</dc:title>
</cp:coreProperties>
</file>